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F4B20-3142-44CF-A21F-9C6BE790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CED0C-D688-4B00-924F-C15571C3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33A2B-E7D7-4894-B8ED-CCE98C552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21873-4F95-4DD0-BD40-578A0B29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CA39-F993-4C1B-BFB7-9E11E217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13E1-28F3-4851-8CFF-3561C5D3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9DC7-9942-441B-8903-586716D1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B6D8-1B96-4261-87EC-1E7003F8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3814-6330-452B-8232-52481E55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C29D-4A13-4945-9850-517237CA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7B54-54E9-4AE7-996C-C5F7F2C4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BC947-7B8F-4976-BEBE-61931066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EB3A-C8F6-4860-B61F-5D5A87C6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90D2-48A3-4D30-955C-93A68807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2CCB-5AAF-447E-B030-5824C716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8B32-516F-4520-97ED-5BA3C8ABC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0605-F534-4013-87D0-912D7E258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77F36-A06F-4875-B137-DCA2B05A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69405-3D02-4DCB-BFBF-960FB4C4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AC065-A24C-4118-BF94-4C8728C6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E37BC-F262-4267-BE72-88505558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EF029-7547-4C81-B412-4F64D6C6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C2FDF-DDD2-40B1-9798-7B2487CF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6B18E-A42D-493D-9F46-4B1E9A35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D743-C373-4FD4-992F-9D46CCF415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78D7-F7CB-4735-AF75-A525C3B1CF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“</a:t>
            </a: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Being a athlete”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:Jer’Mell Che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this job abou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y play in front of an audi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e player only play a sport for money 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are the step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18:23:19Z</dcterms:created>
  <dc:creator>jermell.chester</dc:creator>
  <dc:description/>
  <dc:language>en-US</dc:language>
  <cp:lastModifiedBy>jermell.chester</cp:lastModifiedBy>
  <dcterms:modified xsi:type="dcterms:W3CDTF">2008-04-25T18:34:41Z</dcterms:modified>
  <cp:revision>2</cp:revision>
  <dc:subject/>
  <dc:title>“Being a athlete”</dc:title>
</cp:coreProperties>
</file>